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2E7F10-51FA-4FB5-9E65-CE327FD0617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0EED0D-8EB1-4E36-B57A-67277FA2964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E34B84-E063-4E68-A3A5-A1DA2653E0D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9A88C8-C04B-45DF-94BF-D926FBCD939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562824-47AD-43A9-86BD-9117EFA264E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F9C5D8-DD51-4C1C-85B1-13D00F53545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4FBF57-41D1-49E6-9F4E-8433ED2AF7F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4248-ECF4-43B8-AD8B-A563846A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7D1E-73B0-4910-9623-59F70A30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6FE51-9D62-4761-889F-4252D958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F85F5-C689-44D5-8F22-C739A9D9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FF6D6-84E4-4B44-B589-AFF2E1E8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28C9E-59B7-4C96-A80A-CEDDE88E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DFF4B-9A97-48D3-A583-ABDB5F62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0708A-1C82-4BE8-A44E-595341CA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5D88F-6547-4C10-A541-B2A637E5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D1728-3C6D-45DA-AEA8-3DC9F40F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EAE8E-9A2E-4177-B8A8-083CE28C7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49A61-3BE1-4A62-8204-65438B5A4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1590-E2A1-4694-832F-607A0D06B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61CBF-E90C-4501-A207-0A1D4A5E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A1216-102D-4DEC-92E2-96E20E2D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33E51-1F5D-4362-865B-F729DB7D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FA9AC-A06C-49D7-96B6-C6672A0B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7F0D2-F997-498A-B94B-71EBEAAD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4902F-2F2D-4573-886E-AFAE2E8F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A0586-FE76-46A3-BCC0-9D8646F6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152DC-9E86-46B6-8B73-1AD27C60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EDC71-B5E6-4B98-8E1C-30FC76A4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5D322-77F1-4AB7-B355-E8A60CAF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32B8-957A-4841-B7CD-9436A1A4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36DF0-E738-420F-9C82-3C72905A0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F70C-6FF5-4029-9471-582D6126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2E0B-54EE-4DC1-85F1-CB72ADED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79E9-1916-4BF1-B79A-A65F1EC5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56D8-D678-42C2-9AEF-7397E37C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FE58-8AD2-4561-89E2-A4BE8937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C33C-F005-457B-86E2-861D0B48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0509-CE04-414F-B891-A151B906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8CBC-3FDC-4FA3-9C27-9886B6C1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407C-52A2-42DD-9F6C-8B3F037C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003E-98A2-40FC-A6B7-C8393418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FC78-4E08-4F41-814B-1B8F5188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D3C8-FE6D-420B-8F61-5C02320F8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8A3E-B4ED-41CA-94C6-C09EDAE4A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363FD-8625-4ACE-9DEB-5D8D33DE3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E8FC4-15E4-456A-87AC-5B1B1680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7EBA4-8B55-49DC-B3C8-5CE1F67A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C8E78-24F5-4BC5-8F39-372404F3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75721-901B-4FD9-88E1-7A7593FA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6535-1170-43E8-A7F5-29659B30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522EE-9D87-478B-BEF0-0C17F2DD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093CC-AA2A-49D5-B88B-7CDD60E5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BF70F-AE68-4DC1-9CE5-8826A091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B5225-B53F-4C47-B35C-55EDA97D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BA300-1C76-49B3-94EE-6DC9A611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1D63B-55BC-45D6-AF69-55E0B4C30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1ECC8-6F5E-465C-A9CA-9C965ED6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77F89-65E9-48EF-92F1-743A06313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46888-BD27-43A0-B2B1-E0330592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CEC00-09E4-4882-B0D2-87011100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0971-1E98-465B-9AB4-E4E63CDF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AEC28-FC2C-429B-9B21-68E106EF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1454A-0E64-407E-AD4B-58AFAA0D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F13EC-7A75-4EA3-B234-B8376D99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4E3CA-EB37-42B7-BCCE-916AB3C1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E839C-2F60-4B4C-9C57-147029CB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EC78A-0A44-488F-98B3-55750885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CB96B-D32C-4374-996F-5072B277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3FDB7-6A86-4A5A-A31D-FC0CCBB3D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73F86-3D9B-40C6-8C2B-85710851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77362-2C56-4F1E-A8B9-9E83B613A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045B-0DAE-4BC1-AAB0-6F61459E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5CFD0-0CE4-4096-AF5F-9E656BE4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066CD-3490-4F76-93CB-932DB0BB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36B94-D67A-4603-9457-CCBDDCB1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5D8AD-EAD0-4E51-A4CA-678A63E4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B8F79-F92B-41C0-81F7-3E119FB8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3B5E1-3B2C-4021-8C03-6B7FEEC2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6F06F-8C38-4C74-AB3C-693D0592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81515-6C2F-4FE0-B10B-6540F4C8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F9F64-E8B0-4425-A6AB-73445ADE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68AE1-C9D3-4BE6-B145-4EE9E117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BC86-7448-41F9-ADD7-1A505291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320C5-3120-4096-A806-691FC09EA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5CF1A-1526-4BC0-8AA8-77CC53591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500A4-EDCB-4EB4-9275-49332989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884A9-1462-4ACF-8FBA-D0981E27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5A4E4-9896-4949-955E-86F600AE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984C5-1FE5-400A-9DA0-7011B1FC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9751C-238F-42E6-9E48-62129930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2C990-F8DA-49CE-8B17-DADF5836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F7480-8AD3-475A-BA1C-907386FB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A0295-5B9A-4660-A9B2-1F4BE6BC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7D90-773A-4786-9F79-C685AB72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91333-2B62-48F1-822D-5B9F30B7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83D73-BBB4-41F2-822A-52C18421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A1222-7E27-49E2-8EFB-0C163C4E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C207E-745C-4BE8-AE38-5FD19019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CDD91-E92D-4CA5-888A-35BA4AE3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12562-C09B-4E71-BA37-C53CCBEE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5F341-FC0A-4656-AC07-997ACF68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D883F-B090-4EFF-BDF6-4A3B5F76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914A7-6448-41C5-B2EF-2E9B1AE8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B2D44-378C-478A-8389-72C109C0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9323-33F2-4AAF-B71C-98E510E5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64B67-1B9A-40C7-B0A4-403A270B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3904F-635E-4ADF-90BB-E166D381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6A642-077A-4399-B781-C5A522D1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EABC6-8A39-46BB-808B-FBAA3BC9D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B896D-10B0-46F9-ABE1-6D6E9407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8E384-56DC-4FB3-AA36-FBE5138F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BC71C-F9F6-4757-9133-03A0FD6B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87309-3524-4FDB-960F-EC894A5D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FE4B2-A11D-4232-8E9C-5A493649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980D0-4A8E-4FB3-806A-32274997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74D1-ABF9-4751-A55A-4C5F4611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95F88-34E3-4B85-BEA8-F0D37D11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2F996-F9E0-490C-BFFB-729A39CA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827E5-7001-400D-96AA-E186AFE5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BDE7C-A925-4B74-91C9-81E33C63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D61C9-5F7B-4AAE-B936-3CDEB391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8F61B-0F35-40AA-A1BA-B79256A6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F2237-8B0A-485B-9648-2888DB95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639EA-A213-4789-875B-5067E3BE9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B5453-FBC1-4571-BD23-B2A1107D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F379D-20D1-4241-B242-A7FA4AE4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D9B6FB-2E0D-429E-9DC3-B8672D7E798C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6629400" y="600120"/>
            <a:ext cx="2057400" cy="58165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744960" y="5955840"/>
            <a:ext cx="947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580680" y="5951520"/>
            <a:ext cx="5923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4C6666-44D4-4DB8-91FC-E455A32B18A2}" type="slidenum"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47840" y="3086280"/>
            <a:ext cx="8240400" cy="330516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4C07BE-BE32-42B6-970E-4F91CE0D9994}" type="slidenum"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5E6844-C6AF-4161-8008-6816017B7B1B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452520" y="514188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96D068-FF65-4F40-A64C-7345F457FAB0}" type="slidenum"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91C6BE-9FC7-47BE-AC83-E38FCC2A9C6B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76CF88-37FD-4626-89A0-0B006CC9B56A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7458BE-34BA-4D37-9FC8-56AD882143B6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452520" y="5141880"/>
            <a:ext cx="8238960" cy="127476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E2BBF0-33F2-4454-90FE-240F7D785B23}" type="slidenum"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8F2569-3FD2-470B-B871-C54DA3A8B8B0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81040" y="990720"/>
            <a:ext cx="7989840" cy="15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3600" spc="-1" strike="noStrike">
                <a:solidFill>
                  <a:srgbClr val="366658"/>
                </a:solidFill>
                <a:latin typeface="Arial"/>
              </a:rPr>
              <a:t>TWORZENIE PREZENTACJI MULTIMEDIALNEJ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55280" y="3860280"/>
            <a:ext cx="7815240" cy="15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ill Sans MT"/>
              </a:rPr>
              <a:t>W SZEŚCIU KROKACH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Diagram 3" descr=""/>
          <p:cNvPicPr/>
          <p:nvPr/>
        </p:nvPicPr>
        <p:blipFill>
          <a:blip r:embed="rId1"/>
          <a:stretch/>
        </p:blipFill>
        <p:spPr>
          <a:xfrm>
            <a:off x="262080" y="1530360"/>
            <a:ext cx="8626320" cy="5718240"/>
          </a:xfrm>
          <a:prstGeom prst="rect">
            <a:avLst/>
          </a:prstGeom>
          <a:ln w="0">
            <a:noFill/>
          </a:ln>
        </p:spPr>
      </p:pic>
      <p:grpSp>
        <p:nvGrpSpPr>
          <p:cNvPr id="459" name="Grupa 2"/>
          <p:cNvGrpSpPr/>
          <p:nvPr/>
        </p:nvGrpSpPr>
        <p:grpSpPr>
          <a:xfrm>
            <a:off x="1424160" y="1336680"/>
            <a:ext cx="1276200" cy="1276200"/>
            <a:chOff x="1424160" y="1336680"/>
            <a:chExt cx="1276200" cy="1276200"/>
          </a:xfrm>
        </p:grpSpPr>
        <p:sp>
          <p:nvSpPr>
            <p:cNvPr id="460" name="Owal 20"/>
            <p:cNvSpPr/>
            <p:nvPr/>
          </p:nvSpPr>
          <p:spPr>
            <a:xfrm>
              <a:off x="1424160" y="1336680"/>
              <a:ext cx="1276200" cy="127620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61" name="Grafika 17" descr="Lista kontrolna"/>
            <p:cNvPicPr/>
            <p:nvPr/>
          </p:nvPicPr>
          <p:blipFill>
            <a:blip r:embed="rId2"/>
            <a:stretch/>
          </p:blipFill>
          <p:spPr>
            <a:xfrm>
              <a:off x="1604880" y="1517400"/>
              <a:ext cx="900000" cy="9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2" name="Grupa 4"/>
          <p:cNvGrpSpPr/>
          <p:nvPr/>
        </p:nvGrpSpPr>
        <p:grpSpPr>
          <a:xfrm>
            <a:off x="7684920" y="1263600"/>
            <a:ext cx="1274760" cy="1276560"/>
            <a:chOff x="7684920" y="1263600"/>
            <a:chExt cx="1274760" cy="1276560"/>
          </a:xfrm>
        </p:grpSpPr>
        <p:sp>
          <p:nvSpPr>
            <p:cNvPr id="463" name="Owal 21"/>
            <p:cNvSpPr/>
            <p:nvPr/>
          </p:nvSpPr>
          <p:spPr>
            <a:xfrm>
              <a:off x="7684920" y="1263600"/>
              <a:ext cx="127476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64" name="Grafika 15" descr="Głośność"/>
            <p:cNvPicPr/>
            <p:nvPr/>
          </p:nvPicPr>
          <p:blipFill>
            <a:blip r:embed="rId3"/>
            <a:stretch/>
          </p:blipFill>
          <p:spPr>
            <a:xfrm>
              <a:off x="7924680" y="1450800"/>
              <a:ext cx="898560" cy="90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5" name="Grupa 1"/>
          <p:cNvGrpSpPr/>
          <p:nvPr/>
        </p:nvGrpSpPr>
        <p:grpSpPr>
          <a:xfrm>
            <a:off x="4616280" y="1263600"/>
            <a:ext cx="1276560" cy="1276560"/>
            <a:chOff x="4616280" y="1263600"/>
            <a:chExt cx="1276560" cy="1276560"/>
          </a:xfrm>
        </p:grpSpPr>
        <p:sp>
          <p:nvSpPr>
            <p:cNvPr id="466" name="Owal 23"/>
            <p:cNvSpPr/>
            <p:nvPr/>
          </p:nvSpPr>
          <p:spPr>
            <a:xfrm>
              <a:off x="4616280" y="1263600"/>
              <a:ext cx="127656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67" name="Grafika 19" descr="Ekran projekcyjny"/>
            <p:cNvPicPr/>
            <p:nvPr/>
          </p:nvPicPr>
          <p:blipFill>
            <a:blip r:embed="rId4"/>
            <a:stretch/>
          </p:blipFill>
          <p:spPr>
            <a:xfrm>
              <a:off x="4806720" y="1446120"/>
              <a:ext cx="900360" cy="90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8" name="Grupa 27"/>
          <p:cNvGrpSpPr/>
          <p:nvPr/>
        </p:nvGrpSpPr>
        <p:grpSpPr>
          <a:xfrm>
            <a:off x="7701120" y="3860640"/>
            <a:ext cx="1274760" cy="1276560"/>
            <a:chOff x="7701120" y="3860640"/>
            <a:chExt cx="1274760" cy="1276560"/>
          </a:xfrm>
        </p:grpSpPr>
        <p:sp>
          <p:nvSpPr>
            <p:cNvPr id="469" name="Owal 28"/>
            <p:cNvSpPr/>
            <p:nvPr/>
          </p:nvSpPr>
          <p:spPr>
            <a:xfrm>
              <a:off x="7701120" y="3860640"/>
              <a:ext cx="127476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70" name="Grafika 29" descr="Dyskietka"/>
            <p:cNvPicPr/>
            <p:nvPr/>
          </p:nvPicPr>
          <p:blipFill>
            <a:blip r:embed="rId5"/>
            <a:stretch/>
          </p:blipFill>
          <p:spPr>
            <a:xfrm>
              <a:off x="7888320" y="4047840"/>
              <a:ext cx="900360" cy="90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1" name="Grupa 30"/>
          <p:cNvGrpSpPr/>
          <p:nvPr/>
        </p:nvGrpSpPr>
        <p:grpSpPr>
          <a:xfrm>
            <a:off x="4610160" y="3860640"/>
            <a:ext cx="1276200" cy="1276560"/>
            <a:chOff x="4610160" y="3860640"/>
            <a:chExt cx="1276200" cy="1276560"/>
          </a:xfrm>
        </p:grpSpPr>
        <p:sp>
          <p:nvSpPr>
            <p:cNvPr id="472" name="Owal 31"/>
            <p:cNvSpPr/>
            <p:nvPr/>
          </p:nvSpPr>
          <p:spPr>
            <a:xfrm>
              <a:off x="4610160" y="3860640"/>
              <a:ext cx="127620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73" name="Grafika 32" descr="Drukarka"/>
            <p:cNvPicPr/>
            <p:nvPr/>
          </p:nvPicPr>
          <p:blipFill>
            <a:blip r:embed="rId6"/>
            <a:stretch/>
          </p:blipFill>
          <p:spPr>
            <a:xfrm>
              <a:off x="4802040" y="4039920"/>
              <a:ext cx="901800" cy="9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4" name="Grupa 33"/>
          <p:cNvGrpSpPr/>
          <p:nvPr/>
        </p:nvGrpSpPr>
        <p:grpSpPr>
          <a:xfrm>
            <a:off x="1494000" y="3860640"/>
            <a:ext cx="1276200" cy="1276560"/>
            <a:chOff x="1494000" y="3860640"/>
            <a:chExt cx="1276200" cy="1276560"/>
          </a:xfrm>
        </p:grpSpPr>
        <p:sp>
          <p:nvSpPr>
            <p:cNvPr id="475" name="Owal 34"/>
            <p:cNvSpPr/>
            <p:nvPr/>
          </p:nvSpPr>
          <p:spPr>
            <a:xfrm>
              <a:off x="1494000" y="3860640"/>
              <a:ext cx="127620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76" name="Grafika 35" descr="Nauczyciel"/>
            <p:cNvPicPr/>
            <p:nvPr/>
          </p:nvPicPr>
          <p:blipFill>
            <a:blip r:embed="rId7"/>
            <a:stretch/>
          </p:blipFill>
          <p:spPr>
            <a:xfrm>
              <a:off x="1681200" y="4092480"/>
              <a:ext cx="901800" cy="90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ETAPY PRZYGOTOWYWANIA PREZENTACJI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8" name="pole tekstowe 5"/>
          <p:cNvSpPr/>
          <p:nvPr/>
        </p:nvSpPr>
        <p:spPr>
          <a:xfrm>
            <a:off x="3865680" y="6332400"/>
            <a:ext cx="15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(opcjonalnie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1. PLANOWANIE PREZENTACJI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480" name="Prostokąt 29"/>
          <p:cNvGrpSpPr/>
          <p:nvPr/>
        </p:nvGrpSpPr>
        <p:grpSpPr>
          <a:xfrm>
            <a:off x="781200" y="2438280"/>
            <a:ext cx="1309680" cy="884520"/>
            <a:chOff x="781200" y="2438280"/>
            <a:chExt cx="1309680" cy="884520"/>
          </a:xfrm>
        </p:grpSpPr>
        <p:pic>
          <p:nvPicPr>
            <p:cNvPr id="481" name="Prostokąt 29" descr=""/>
            <p:cNvPicPr/>
            <p:nvPr/>
          </p:nvPicPr>
          <p:blipFill>
            <a:blip r:embed="rId1"/>
            <a:stretch/>
          </p:blipFill>
          <p:spPr>
            <a:xfrm>
              <a:off x="781200" y="2438280"/>
              <a:ext cx="1309680" cy="8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861840" y="2516040"/>
              <a:ext cx="115272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pl-PL" sz="1800" spc="-1" strike="noStrike">
                  <a:solidFill>
                    <a:srgbClr val="366658"/>
                  </a:solidFill>
                  <a:latin typeface="Arial"/>
                  <a:ea typeface="Arial"/>
                </a:rPr>
                <a:t>1.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483" name="Prostokąt 30"/>
          <p:cNvGrpSpPr/>
          <p:nvPr/>
        </p:nvGrpSpPr>
        <p:grpSpPr>
          <a:xfrm>
            <a:off x="781200" y="3376440"/>
            <a:ext cx="1309680" cy="884520"/>
            <a:chOff x="781200" y="3376440"/>
            <a:chExt cx="1309680" cy="884520"/>
          </a:xfrm>
        </p:grpSpPr>
        <p:pic>
          <p:nvPicPr>
            <p:cNvPr id="484" name="Prostokąt 30" descr=""/>
            <p:cNvPicPr/>
            <p:nvPr/>
          </p:nvPicPr>
          <p:blipFill>
            <a:blip r:embed="rId2"/>
            <a:stretch/>
          </p:blipFill>
          <p:spPr>
            <a:xfrm>
              <a:off x="781200" y="3376440"/>
              <a:ext cx="1309680" cy="8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861840" y="3457440"/>
              <a:ext cx="115272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pl-PL" sz="1800" spc="-1" strike="noStrike">
                  <a:solidFill>
                    <a:srgbClr val="366658"/>
                  </a:solidFill>
                  <a:latin typeface="Arial"/>
                  <a:ea typeface="Arial"/>
                </a:rPr>
                <a:t>2. 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486" name="Grupa 31"/>
          <p:cNvGrpSpPr/>
          <p:nvPr/>
        </p:nvGrpSpPr>
        <p:grpSpPr>
          <a:xfrm>
            <a:off x="692280" y="4348080"/>
            <a:ext cx="1549440" cy="987480"/>
            <a:chOff x="692280" y="4348080"/>
            <a:chExt cx="1549440" cy="987480"/>
          </a:xfrm>
        </p:grpSpPr>
        <p:grpSp>
          <p:nvGrpSpPr>
            <p:cNvPr id="487" name="Prostokąt 32"/>
            <p:cNvGrpSpPr/>
            <p:nvPr/>
          </p:nvGrpSpPr>
          <p:grpSpPr>
            <a:xfrm>
              <a:off x="692280" y="4348080"/>
              <a:ext cx="1189800" cy="761760"/>
              <a:chOff x="692280" y="4348080"/>
              <a:chExt cx="1189800" cy="761760"/>
            </a:xfrm>
          </p:grpSpPr>
          <p:pic>
            <p:nvPicPr>
              <p:cNvPr id="488" name="Prostokąt 32" descr=""/>
              <p:cNvPicPr/>
              <p:nvPr/>
            </p:nvPicPr>
            <p:blipFill>
              <a:blip r:embed="rId3"/>
              <a:stretch/>
            </p:blipFill>
            <p:spPr>
              <a:xfrm>
                <a:off x="692280" y="4348080"/>
                <a:ext cx="118980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9" name=""/>
              <p:cNvSpPr/>
              <p:nvPr/>
            </p:nvSpPr>
            <p:spPr>
              <a:xfrm>
                <a:off x="761400" y="4417560"/>
                <a:ext cx="104652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490" name="Prostokąt 33"/>
            <p:cNvGrpSpPr/>
            <p:nvPr/>
          </p:nvGrpSpPr>
          <p:grpSpPr>
            <a:xfrm>
              <a:off x="858240" y="4442400"/>
              <a:ext cx="1189800" cy="761760"/>
              <a:chOff x="858240" y="4442400"/>
              <a:chExt cx="1189800" cy="761760"/>
            </a:xfrm>
          </p:grpSpPr>
          <p:pic>
            <p:nvPicPr>
              <p:cNvPr id="491" name="Prostokąt 33" descr=""/>
              <p:cNvPicPr/>
              <p:nvPr/>
            </p:nvPicPr>
            <p:blipFill>
              <a:blip r:embed="rId4"/>
              <a:stretch/>
            </p:blipFill>
            <p:spPr>
              <a:xfrm>
                <a:off x="858240" y="4442400"/>
                <a:ext cx="118980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929880" y="4509720"/>
                <a:ext cx="104652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493" name="Prostokąt 34"/>
            <p:cNvGrpSpPr/>
            <p:nvPr/>
          </p:nvGrpSpPr>
          <p:grpSpPr>
            <a:xfrm>
              <a:off x="1051920" y="4573800"/>
              <a:ext cx="1189800" cy="761760"/>
              <a:chOff x="1051920" y="4573800"/>
              <a:chExt cx="1189800" cy="761760"/>
            </a:xfrm>
          </p:grpSpPr>
          <p:pic>
            <p:nvPicPr>
              <p:cNvPr id="494" name="Prostokąt 34" descr=""/>
              <p:cNvPicPr/>
              <p:nvPr/>
            </p:nvPicPr>
            <p:blipFill>
              <a:blip r:embed="rId5"/>
              <a:stretch/>
            </p:blipFill>
            <p:spPr>
              <a:xfrm>
                <a:off x="1051920" y="4573800"/>
                <a:ext cx="118980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5" name=""/>
              <p:cNvSpPr/>
              <p:nvPr/>
            </p:nvSpPr>
            <p:spPr>
              <a:xfrm>
                <a:off x="1121760" y="4642560"/>
                <a:ext cx="104652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pl-PL" sz="1800" spc="-1" strike="noStrike">
                    <a:solidFill>
                      <a:srgbClr val="366658"/>
                    </a:solidFill>
                    <a:latin typeface="Arial"/>
                    <a:ea typeface="Arial"/>
                  </a:rPr>
                  <a:t>3. do n-1</a:t>
                </a: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grpSp>
        <p:nvGrpSpPr>
          <p:cNvPr id="496" name="Prostokąt 37"/>
          <p:cNvGrpSpPr/>
          <p:nvPr/>
        </p:nvGrpSpPr>
        <p:grpSpPr>
          <a:xfrm>
            <a:off x="781200" y="5456160"/>
            <a:ext cx="1309680" cy="884160"/>
            <a:chOff x="781200" y="5456160"/>
            <a:chExt cx="1309680" cy="884160"/>
          </a:xfrm>
        </p:grpSpPr>
        <p:pic>
          <p:nvPicPr>
            <p:cNvPr id="497" name="Prostokąt 37" descr=""/>
            <p:cNvPicPr/>
            <p:nvPr/>
          </p:nvPicPr>
          <p:blipFill>
            <a:blip r:embed="rId6"/>
            <a:stretch/>
          </p:blipFill>
          <p:spPr>
            <a:xfrm>
              <a:off x="781200" y="5456160"/>
              <a:ext cx="130968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861840" y="5535720"/>
              <a:ext cx="11527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pl-PL" sz="1800" spc="-1" strike="noStrike">
                  <a:solidFill>
                    <a:srgbClr val="366658"/>
                  </a:solidFill>
                  <a:latin typeface="Arial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99" name="pole tekstowe 20"/>
          <p:cNvSpPr/>
          <p:nvPr/>
        </p:nvSpPr>
        <p:spPr>
          <a:xfrm>
            <a:off x="2705040" y="2570040"/>
            <a:ext cx="548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Tytuł i ewentualnie podtytuł oraz autor prezentacj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ole tekstowe 20"/>
          <p:cNvSpPr/>
          <p:nvPr/>
        </p:nvSpPr>
        <p:spPr>
          <a:xfrm>
            <a:off x="2641680" y="3495600"/>
            <a:ext cx="54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stęp, spis treści prezentacji (np. w formie nawigacji po głównych punktach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ole tekstowe 20"/>
          <p:cNvSpPr/>
          <p:nvPr/>
        </p:nvSpPr>
        <p:spPr>
          <a:xfrm>
            <a:off x="2682720" y="4618080"/>
            <a:ext cx="50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łaściwa treść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ole tekstowe 20"/>
          <p:cNvSpPr/>
          <p:nvPr/>
        </p:nvSpPr>
        <p:spPr>
          <a:xfrm>
            <a:off x="2617920" y="5457960"/>
            <a:ext cx="54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dsumowanie, dane o autorze, dane kontaktowe, podziękowania itp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3" name="Grafika 57" descr="Grupa"/>
          <p:cNvPicPr/>
          <p:nvPr/>
        </p:nvPicPr>
        <p:blipFill>
          <a:blip r:embed="rId7"/>
          <a:stretch/>
        </p:blipFill>
        <p:spPr>
          <a:xfrm>
            <a:off x="5388120" y="1254240"/>
            <a:ext cx="965160" cy="965160"/>
          </a:xfrm>
          <a:prstGeom prst="rect">
            <a:avLst/>
          </a:prstGeom>
          <a:ln w="0">
            <a:noFill/>
          </a:ln>
        </p:spPr>
      </p:pic>
      <p:pic>
        <p:nvPicPr>
          <p:cNvPr id="504" name="Grafika 58" descr="Dokument"/>
          <p:cNvPicPr/>
          <p:nvPr/>
        </p:nvPicPr>
        <p:blipFill>
          <a:blip r:embed="rId8"/>
          <a:stretch/>
        </p:blipFill>
        <p:spPr>
          <a:xfrm>
            <a:off x="6357960" y="1476360"/>
            <a:ext cx="704880" cy="703440"/>
          </a:xfrm>
          <a:prstGeom prst="rect">
            <a:avLst/>
          </a:prstGeom>
          <a:ln w="0">
            <a:noFill/>
          </a:ln>
        </p:spPr>
      </p:pic>
      <p:sp>
        <p:nvSpPr>
          <p:cNvPr id="505" name="Strzałka: pięciokąt 59"/>
          <p:cNvSpPr/>
          <p:nvPr/>
        </p:nvSpPr>
        <p:spPr>
          <a:xfrm>
            <a:off x="592200" y="1476360"/>
            <a:ext cx="4124160" cy="647640"/>
          </a:xfrm>
          <a:custGeom>
            <a:avLst/>
            <a:gdLst>
              <a:gd name="textAreaLeft" fmla="*/ 0 w 4124160"/>
              <a:gd name="textAreaRight" fmla="*/ 4124520 w 412416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04" y="0"/>
                </a:lnTo>
                <a:lnTo>
                  <a:pt x="21600" y="10800"/>
                </a:lnTo>
                <a:lnTo>
                  <a:pt x="1990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ostosuj prezentację do odbiorców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i zaplanuj zawartość merytoryczną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Strzałka: pagon 60"/>
          <p:cNvSpPr/>
          <p:nvPr/>
        </p:nvSpPr>
        <p:spPr>
          <a:xfrm>
            <a:off x="4545000" y="1476360"/>
            <a:ext cx="646200" cy="631800"/>
          </a:xfrm>
          <a:custGeom>
            <a:avLst/>
            <a:gdLst>
              <a:gd name="textAreaLeft" fmla="*/ 0 w 646200"/>
              <a:gd name="textAreaRight" fmla="*/ 646560 w 64620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39" y="0"/>
                </a:lnTo>
                <a:lnTo>
                  <a:pt x="21600" y="10800"/>
                </a:lnTo>
                <a:lnTo>
                  <a:pt x="11039" y="21600"/>
                </a:lnTo>
                <a:lnTo>
                  <a:pt x="0" y="21600"/>
                </a:lnTo>
                <a:lnTo>
                  <a:pt x="10561" y="10800"/>
                </a:lnTo>
                <a:close/>
              </a:path>
            </a:pathLst>
          </a:cu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Owal 61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8" name="Grafika 62" descr="Lista kontrolna"/>
          <p:cNvPicPr/>
          <p:nvPr/>
        </p:nvPicPr>
        <p:blipFill>
          <a:blip r:embed="rId9"/>
          <a:stretch/>
        </p:blipFill>
        <p:spPr>
          <a:xfrm>
            <a:off x="8185320" y="376200"/>
            <a:ext cx="5745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2. TWORZENIE PREZENTACJI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0" name="Owal 35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1" name="Grafika 36" descr="Ekran projekcyjny"/>
          <p:cNvPicPr/>
          <p:nvPr/>
        </p:nvPicPr>
        <p:blipFill>
          <a:blip r:embed="rId1"/>
          <a:stretch/>
        </p:blipFill>
        <p:spPr>
          <a:xfrm>
            <a:off x="8193240" y="390600"/>
            <a:ext cx="574560" cy="576360"/>
          </a:xfrm>
          <a:prstGeom prst="rect">
            <a:avLst/>
          </a:prstGeom>
          <a:ln w="0">
            <a:noFill/>
          </a:ln>
        </p:spPr>
      </p:pic>
      <p:pic>
        <p:nvPicPr>
          <p:cNvPr id="512" name="Diagram 4" descr=""/>
          <p:cNvPicPr/>
          <p:nvPr/>
        </p:nvPicPr>
        <p:blipFill>
          <a:blip r:embed="rId2"/>
          <a:stretch/>
        </p:blipFill>
        <p:spPr>
          <a:xfrm>
            <a:off x="615960" y="1785960"/>
            <a:ext cx="3541680" cy="4200480"/>
          </a:xfrm>
          <a:prstGeom prst="rect">
            <a:avLst/>
          </a:prstGeom>
          <a:ln w="0">
            <a:noFill/>
          </a:ln>
        </p:spPr>
      </p:pic>
      <p:sp>
        <p:nvSpPr>
          <p:cNvPr id="513" name="Prostokąt 14"/>
          <p:cNvSpPr/>
          <p:nvPr/>
        </p:nvSpPr>
        <p:spPr>
          <a:xfrm>
            <a:off x="5364000" y="1832040"/>
            <a:ext cx="352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Plik/Nowy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lub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Projektowanie/Motyw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14" name="Grupa 19"/>
          <p:cNvGrpSpPr/>
          <p:nvPr/>
        </p:nvGrpSpPr>
        <p:grpSpPr>
          <a:xfrm>
            <a:off x="3913200" y="2844720"/>
            <a:ext cx="1257120" cy="925560"/>
            <a:chOff x="3913200" y="2844720"/>
            <a:chExt cx="1257120" cy="925560"/>
          </a:xfrm>
        </p:grpSpPr>
        <p:sp>
          <p:nvSpPr>
            <p:cNvPr id="515" name="Prostokąt: zaokrąglone rogi 17"/>
            <p:cNvSpPr/>
            <p:nvPr/>
          </p:nvSpPr>
          <p:spPr>
            <a:xfrm>
              <a:off x="3913200" y="2844720"/>
              <a:ext cx="1257120" cy="92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516" name="Grupa 12"/>
            <p:cNvGrpSpPr/>
            <p:nvPr/>
          </p:nvGrpSpPr>
          <p:grpSpPr>
            <a:xfrm>
              <a:off x="3954600" y="2879280"/>
              <a:ext cx="1100160" cy="869400"/>
              <a:chOff x="3954600" y="2879280"/>
              <a:chExt cx="1100160" cy="869400"/>
            </a:xfrm>
          </p:grpSpPr>
          <p:pic>
            <p:nvPicPr>
              <p:cNvPr id="517" name="Grafika 38" descr="Dokument"/>
              <p:cNvPicPr/>
              <p:nvPr/>
            </p:nvPicPr>
            <p:blipFill>
              <a:blip r:embed="rId3"/>
              <a:stretch/>
            </p:blipFill>
            <p:spPr>
              <a:xfrm rot="21288600">
                <a:off x="3980160" y="2988720"/>
                <a:ext cx="593640" cy="59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8" name="Grupa 39"/>
              <p:cNvGrpSpPr/>
              <p:nvPr/>
            </p:nvGrpSpPr>
            <p:grpSpPr>
              <a:xfrm>
                <a:off x="4451040" y="2879280"/>
                <a:ext cx="603720" cy="869400"/>
                <a:chOff x="4451040" y="2879280"/>
                <a:chExt cx="603720" cy="869400"/>
              </a:xfrm>
            </p:grpSpPr>
            <p:pic>
              <p:nvPicPr>
                <p:cNvPr id="519" name="Grafika 40" descr="Paleta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492080" y="3145680"/>
                  <a:ext cx="562680" cy="603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0" name="Grafika 41" descr="Mały pędze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451040" y="2879280"/>
                  <a:ext cx="562680" cy="603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521" name="Grupa 23"/>
          <p:cNvGrpSpPr/>
          <p:nvPr/>
        </p:nvGrpSpPr>
        <p:grpSpPr>
          <a:xfrm>
            <a:off x="3886200" y="1700280"/>
            <a:ext cx="1258920" cy="925560"/>
            <a:chOff x="3886200" y="1700280"/>
            <a:chExt cx="1258920" cy="925560"/>
          </a:xfrm>
        </p:grpSpPr>
        <p:sp>
          <p:nvSpPr>
            <p:cNvPr id="522" name="Prostokąt: zaokrąglone rogi 45"/>
            <p:cNvSpPr/>
            <p:nvPr/>
          </p:nvSpPr>
          <p:spPr>
            <a:xfrm>
              <a:off x="3886200" y="1700280"/>
              <a:ext cx="1258920" cy="92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523" name="Grafika 18" descr="Rolka filmu"/>
            <p:cNvPicPr/>
            <p:nvPr/>
          </p:nvPicPr>
          <p:blipFill>
            <a:blip r:embed="rId6"/>
            <a:stretch/>
          </p:blipFill>
          <p:spPr>
            <a:xfrm>
              <a:off x="4170240" y="1839960"/>
              <a:ext cx="615960" cy="61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4" name="Grupa 21"/>
          <p:cNvGrpSpPr/>
          <p:nvPr/>
        </p:nvGrpSpPr>
        <p:grpSpPr>
          <a:xfrm>
            <a:off x="3886200" y="3979800"/>
            <a:ext cx="1258920" cy="925560"/>
            <a:chOff x="3886200" y="3979800"/>
            <a:chExt cx="1258920" cy="925560"/>
          </a:xfrm>
        </p:grpSpPr>
        <p:sp>
          <p:nvSpPr>
            <p:cNvPr id="525" name="Prostokąt: zaokrąglone rogi 46"/>
            <p:cNvSpPr/>
            <p:nvPr/>
          </p:nvSpPr>
          <p:spPr>
            <a:xfrm>
              <a:off x="3886200" y="3979800"/>
              <a:ext cx="1258920" cy="92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526" name="Grupa 42"/>
            <p:cNvGrpSpPr/>
            <p:nvPr/>
          </p:nvGrpSpPr>
          <p:grpSpPr>
            <a:xfrm>
              <a:off x="4029120" y="4033440"/>
              <a:ext cx="911160" cy="847080"/>
              <a:chOff x="4029120" y="4033440"/>
              <a:chExt cx="911160" cy="847080"/>
            </a:xfrm>
          </p:grpSpPr>
          <p:pic>
            <p:nvPicPr>
              <p:cNvPr id="527" name="Grafika 43" descr="Chodzenie"/>
              <p:cNvPicPr/>
              <p:nvPr/>
            </p:nvPicPr>
            <p:blipFill>
              <a:blip r:embed="rId7"/>
              <a:stretch/>
            </p:blipFill>
            <p:spPr>
              <a:xfrm>
                <a:off x="4029120" y="4033440"/>
                <a:ext cx="681120" cy="68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8" name="Grafika 44" descr="Bieg"/>
              <p:cNvPicPr/>
              <p:nvPr/>
            </p:nvPicPr>
            <p:blipFill>
              <a:blip r:embed="rId8"/>
              <a:stretch/>
            </p:blipFill>
            <p:spPr>
              <a:xfrm>
                <a:off x="4333680" y="4275000"/>
                <a:ext cx="606600" cy="605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29" name="Prostokąt 47"/>
          <p:cNvSpPr/>
          <p:nvPr/>
        </p:nvSpPr>
        <p:spPr>
          <a:xfrm>
            <a:off x="5364000" y="2919240"/>
            <a:ext cx="37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Wstawia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/..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Kształt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Iko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SmartAr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Wykr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30" name="Grupa 25"/>
          <p:cNvGrpSpPr/>
          <p:nvPr/>
        </p:nvGrpSpPr>
        <p:grpSpPr>
          <a:xfrm>
            <a:off x="3886200" y="5076720"/>
            <a:ext cx="1258920" cy="925560"/>
            <a:chOff x="3886200" y="5076720"/>
            <a:chExt cx="1258920" cy="925560"/>
          </a:xfrm>
        </p:grpSpPr>
        <p:sp>
          <p:nvSpPr>
            <p:cNvPr id="531" name="Prostokąt: zaokrąglone rogi 50"/>
            <p:cNvSpPr/>
            <p:nvPr/>
          </p:nvSpPr>
          <p:spPr>
            <a:xfrm>
              <a:off x="3886200" y="5076720"/>
              <a:ext cx="1258920" cy="92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532" name="Grupa 24"/>
            <p:cNvGrpSpPr/>
            <p:nvPr/>
          </p:nvGrpSpPr>
          <p:grpSpPr>
            <a:xfrm>
              <a:off x="3983400" y="5197680"/>
              <a:ext cx="1061280" cy="741600"/>
              <a:chOff x="3983400" y="5197680"/>
              <a:chExt cx="1061280" cy="741600"/>
            </a:xfrm>
          </p:grpSpPr>
          <p:pic>
            <p:nvPicPr>
              <p:cNvPr id="533" name="Grafika 48" descr="Puzzle"/>
              <p:cNvPicPr/>
              <p:nvPr/>
            </p:nvPicPr>
            <p:blipFill>
              <a:blip r:embed="rId9"/>
              <a:stretch/>
            </p:blipFill>
            <p:spPr>
              <a:xfrm>
                <a:off x="3983400" y="5197680"/>
                <a:ext cx="620280" cy="61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Grafika 49" descr="Budzik"/>
              <p:cNvPicPr/>
              <p:nvPr/>
            </p:nvPicPr>
            <p:blipFill>
              <a:blip r:embed="rId10"/>
              <a:stretch/>
            </p:blipFill>
            <p:spPr>
              <a:xfrm>
                <a:off x="4424400" y="5319720"/>
                <a:ext cx="620280" cy="619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35" name="Prostokąt 51"/>
          <p:cNvSpPr/>
          <p:nvPr/>
        </p:nvSpPr>
        <p:spPr>
          <a:xfrm>
            <a:off x="5364000" y="4067280"/>
            <a:ext cx="39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Animacj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Okienko animacj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Chronometraż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rostokąt 52"/>
          <p:cNvSpPr/>
          <p:nvPr/>
        </p:nvSpPr>
        <p:spPr>
          <a:xfrm>
            <a:off x="5364000" y="5202360"/>
            <a:ext cx="352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Shif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 +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Enter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Ctrl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 + strzałka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Linie siatk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Położe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Wyrówna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Rozmieść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3. DODAWANIE DŹWIĘKÓW I FILMÓW</a:t>
            </a:r>
            <a:br>
              <a:rPr sz="24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Uatrakcyjnij prezentację dodając multimedi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8" name="Owal 9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9" name="Grafika 10" descr="Głośność"/>
          <p:cNvPicPr/>
          <p:nvPr/>
        </p:nvPicPr>
        <p:blipFill>
          <a:blip r:embed="rId1"/>
          <a:stretch/>
        </p:blipFill>
        <p:spPr>
          <a:xfrm>
            <a:off x="8194680" y="3762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540" name="pole tekstowe 8"/>
          <p:cNvSpPr/>
          <p:nvPr/>
        </p:nvSpPr>
        <p:spPr>
          <a:xfrm>
            <a:off x="6159600" y="219564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daj dźwięk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ole tekstowe 11"/>
          <p:cNvSpPr/>
          <p:nvPr/>
        </p:nvSpPr>
        <p:spPr>
          <a:xfrm>
            <a:off x="3200400" y="5040360"/>
            <a:ext cx="29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daj film, np. nagraną zawartość ekranu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42" name="Grupa 19"/>
          <p:cNvGrpSpPr/>
          <p:nvPr/>
        </p:nvGrpSpPr>
        <p:grpSpPr>
          <a:xfrm>
            <a:off x="2006640" y="2055960"/>
            <a:ext cx="3600360" cy="2225520"/>
            <a:chOff x="2006640" y="2055960"/>
            <a:chExt cx="3600360" cy="2225520"/>
          </a:xfrm>
        </p:grpSpPr>
        <p:sp>
          <p:nvSpPr>
            <p:cNvPr id="543" name="pole tekstowe 6"/>
            <p:cNvSpPr/>
            <p:nvPr/>
          </p:nvSpPr>
          <p:spPr>
            <a:xfrm>
              <a:off x="2006640" y="2055960"/>
              <a:ext cx="3600360" cy="22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8cb6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544" name="Obraz 6" descr=""/>
            <p:cNvPicPr/>
            <p:nvPr/>
          </p:nvPicPr>
          <p:blipFill>
            <a:blip r:embed="rId2"/>
            <a:stretch/>
          </p:blipFill>
          <p:spPr>
            <a:xfrm>
              <a:off x="2047320" y="2286360"/>
              <a:ext cx="1152000" cy="40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Obraz 7" descr=""/>
            <p:cNvPicPr/>
            <p:nvPr/>
          </p:nvPicPr>
          <p:blipFill>
            <a:blip r:embed="rId3"/>
            <a:stretch/>
          </p:blipFill>
          <p:spPr>
            <a:xfrm>
              <a:off x="2154960" y="2760480"/>
              <a:ext cx="2743560" cy="13352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546" name="Łącznik prosty ze strzałką 13"/>
          <p:cNvCxnSpPr/>
          <p:nvPr/>
        </p:nvCxnSpPr>
        <p:spPr>
          <a:xfrm flipV="1">
            <a:off x="3404880" y="2439720"/>
            <a:ext cx="2680200" cy="411840"/>
          </a:xfrm>
          <a:prstGeom prst="straightConnector1">
            <a:avLst/>
          </a:prstGeom>
          <a:ln cap="rnd" w="19080">
            <a:solidFill>
              <a:srgbClr val="8cb64a"/>
            </a:solidFill>
            <a:miter/>
            <a:headEnd len="med" type="oval" w="med"/>
            <a:tailEnd len="med" type="oval" w="med"/>
          </a:ln>
        </p:spPr>
      </p:cxnSp>
      <p:cxnSp>
        <p:nvCxnSpPr>
          <p:cNvPr id="547" name="Łącznik prosty ze strzałką 15"/>
          <p:cNvCxnSpPr/>
          <p:nvPr/>
        </p:nvCxnSpPr>
        <p:spPr>
          <a:xfrm>
            <a:off x="4713120" y="3309480"/>
            <a:ext cx="2151720" cy="435960"/>
          </a:xfrm>
          <a:prstGeom prst="straightConnector1">
            <a:avLst/>
          </a:prstGeom>
          <a:ln cap="rnd" w="19080">
            <a:solidFill>
              <a:srgbClr val="8cb64a"/>
            </a:solidFill>
            <a:miter/>
            <a:headEnd len="med" type="oval" w="med"/>
            <a:tailEnd len="med" type="oval" w="med"/>
          </a:ln>
        </p:spPr>
      </p:cxnSp>
      <p:cxnSp>
        <p:nvCxnSpPr>
          <p:cNvPr id="548" name="Łącznik prosty ze strzałką 17"/>
          <p:cNvCxnSpPr>
            <a:stCxn id="545" idx="1"/>
          </p:cNvCxnSpPr>
          <p:nvPr/>
        </p:nvCxnSpPr>
        <p:spPr>
          <a:xfrm flipH="1">
            <a:off x="1437840" y="3427200"/>
            <a:ext cx="717840" cy="1006920"/>
          </a:xfrm>
          <a:prstGeom prst="straightConnector1">
            <a:avLst/>
          </a:prstGeom>
          <a:ln cap="rnd" w="19080">
            <a:solidFill>
              <a:srgbClr val="8cb64a"/>
            </a:solidFill>
            <a:miter/>
            <a:headEnd len="med" type="oval" w="med"/>
            <a:tailEnd len="med" type="oval" w="med"/>
          </a:ln>
        </p:spPr>
      </p:cxnSp>
      <p:pic>
        <p:nvPicPr>
          <p:cNvPr id="549" name="Obraz 29" descr=""/>
          <p:cNvPicPr/>
          <p:nvPr/>
        </p:nvPicPr>
        <p:blipFill>
          <a:blip r:embed="rId4"/>
          <a:stretch/>
        </p:blipFill>
        <p:spPr>
          <a:xfrm>
            <a:off x="324000" y="4508640"/>
            <a:ext cx="2558880" cy="2035080"/>
          </a:xfrm>
          <a:prstGeom prst="rect">
            <a:avLst/>
          </a:prstGeom>
          <a:ln w="9360">
            <a:solidFill>
              <a:srgbClr val="8cb64a"/>
            </a:solidFill>
            <a:miter/>
          </a:ln>
        </p:spPr>
      </p:pic>
      <p:pic>
        <p:nvPicPr>
          <p:cNvPr id="550" name="Obraz 31" descr=""/>
          <p:cNvPicPr/>
          <p:nvPr/>
        </p:nvPicPr>
        <p:blipFill>
          <a:blip r:embed="rId5"/>
          <a:stretch/>
        </p:blipFill>
        <p:spPr>
          <a:xfrm>
            <a:off x="6512040" y="3860640"/>
            <a:ext cx="2368440" cy="2019600"/>
          </a:xfrm>
          <a:prstGeom prst="rect">
            <a:avLst/>
          </a:prstGeom>
          <a:ln w="9360">
            <a:solidFill>
              <a:srgbClr val="8cb64a"/>
            </a:solidFill>
            <a:miter/>
          </a:ln>
        </p:spPr>
      </p:pic>
      <p:pic>
        <p:nvPicPr>
          <p:cNvPr id="551" name="Obraz 33" descr=""/>
          <p:cNvPicPr/>
          <p:nvPr/>
        </p:nvPicPr>
        <p:blipFill>
          <a:blip r:embed="rId6"/>
          <a:stretch/>
        </p:blipFill>
        <p:spPr>
          <a:xfrm>
            <a:off x="7696080" y="21160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4. ZAPISYWANIE PREZENTACJI</a:t>
            </a:r>
            <a:br>
              <a:rPr sz="24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Formaty i ich zastosowanie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3" name="Prostokąt: zaokrąglone rogi 7"/>
          <p:cNvSpPr/>
          <p:nvPr/>
        </p:nvSpPr>
        <p:spPr>
          <a:xfrm>
            <a:off x="851040" y="2476440"/>
            <a:ext cx="3348000" cy="17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844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ctr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żliwość późniejszej edycji prezentacj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ezentowanie przez prelegent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rostokąt: zaokrąglone rogi 6"/>
          <p:cNvSpPr/>
          <p:nvPr/>
        </p:nvSpPr>
        <p:spPr>
          <a:xfrm>
            <a:off x="468360" y="1623960"/>
            <a:ext cx="2808360" cy="119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ezentacja programu Microsoft PowerPoin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(rozszerzenie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pptx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rostokąt: zaokrąglone rogi 12"/>
          <p:cNvSpPr/>
          <p:nvPr/>
        </p:nvSpPr>
        <p:spPr>
          <a:xfrm>
            <a:off x="5172120" y="2492280"/>
            <a:ext cx="3348000" cy="17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844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ctr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ezentacja samouruchamiająca się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możliwości edycj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rostokąt: zaokrąglone rogi 13"/>
          <p:cNvSpPr/>
          <p:nvPr/>
        </p:nvSpPr>
        <p:spPr>
          <a:xfrm>
            <a:off x="4834080" y="1623960"/>
            <a:ext cx="2896920" cy="1190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kaz programu Microsoft PowerPoint (rozszerzenie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pps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ppsx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rostokąt: zaokrąglone rogi 14"/>
          <p:cNvSpPr/>
          <p:nvPr/>
        </p:nvSpPr>
        <p:spPr>
          <a:xfrm>
            <a:off x="806400" y="4941720"/>
            <a:ext cx="3348000" cy="172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844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ctr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ksport jednego lub wszystkich slajdów do plików graficznych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rostokąt: zaokrąglone rogi 15"/>
          <p:cNvSpPr/>
          <p:nvPr/>
        </p:nvSpPr>
        <p:spPr>
          <a:xfrm>
            <a:off x="468360" y="4346640"/>
            <a:ext cx="251928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ormat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IF, JPG, BMP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rostokąt: zaokrąglone rogi 16"/>
          <p:cNvSpPr/>
          <p:nvPr/>
        </p:nvSpPr>
        <p:spPr>
          <a:xfrm>
            <a:off x="5172120" y="4941720"/>
            <a:ext cx="3348000" cy="172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844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ctr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żliwia obejrzenie slajdów (bez animacji) przy braku zainstalowanego programu MS Power Poin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" name="Prostokąt: zaokrąglone rogi 17"/>
          <p:cNvSpPr/>
          <p:nvPr/>
        </p:nvSpPr>
        <p:spPr>
          <a:xfrm>
            <a:off x="4834080" y="4346640"/>
            <a:ext cx="251928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orma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PDF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Owal 18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2" name="Grafika 19" descr="Dyskietka"/>
          <p:cNvPicPr/>
          <p:nvPr/>
        </p:nvPicPr>
        <p:blipFill>
          <a:blip r:embed="rId1"/>
          <a:stretch/>
        </p:blipFill>
        <p:spPr>
          <a:xfrm>
            <a:off x="8194680" y="39528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Obraz 4" descr=""/>
          <p:cNvPicPr/>
          <p:nvPr/>
        </p:nvPicPr>
        <p:blipFill>
          <a:blip r:embed="rId1"/>
          <a:stretch/>
        </p:blipFill>
        <p:spPr>
          <a:xfrm>
            <a:off x="2452680" y="2276640"/>
            <a:ext cx="4067280" cy="4057560"/>
          </a:xfrm>
          <a:prstGeom prst="rect">
            <a:avLst/>
          </a:prstGeom>
          <a:ln w="9360">
            <a:solidFill>
              <a:srgbClr val="8cb64a"/>
            </a:solidFill>
            <a:miter/>
          </a:ln>
        </p:spPr>
      </p:pic>
      <p:sp>
        <p:nvSpPr>
          <p:cNvPr id="564" name="Prostokąt: zaokrąglone rogi 2"/>
          <p:cNvSpPr/>
          <p:nvPr/>
        </p:nvSpPr>
        <p:spPr>
          <a:xfrm>
            <a:off x="179280" y="2419200"/>
            <a:ext cx="2076480" cy="108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5. DRUKOWANIE MATERIAŁÓW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INFORMACYJNYCH I NOTATEK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6" name="Owal 6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7" name="Grafika 7" descr="Drukarka"/>
          <p:cNvPicPr/>
          <p:nvPr/>
        </p:nvPicPr>
        <p:blipFill>
          <a:blip r:embed="rId2"/>
          <a:stretch/>
        </p:blipFill>
        <p:spPr>
          <a:xfrm>
            <a:off x="8194680" y="3762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568" name="Prostokąt: zaokrąglone rogi 10"/>
          <p:cNvSpPr/>
          <p:nvPr/>
        </p:nvSpPr>
        <p:spPr>
          <a:xfrm>
            <a:off x="230040" y="5084640"/>
            <a:ext cx="3046680" cy="161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Objaśnienie: linia bez obramowania 15"/>
          <p:cNvSpPr/>
          <p:nvPr/>
        </p:nvSpPr>
        <p:spPr>
          <a:xfrm flipH="1">
            <a:off x="250920" y="2276640"/>
            <a:ext cx="1860480" cy="136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204" y="13619"/>
                </a:moveTo>
                <a:lnTo>
                  <a:pt x="-2778" y="11171"/>
                </a:lnTo>
              </a:path>
            </a:pathLst>
          </a:custGeom>
          <a:noFill/>
          <a:ln cap="rnd" w="22320">
            <a:solidFill>
              <a:srgbClr val="8cb64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lajdy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– jeden slajd na jednej stronie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Objaśnienie: linia bez obramowania 16"/>
          <p:cNvSpPr/>
          <p:nvPr/>
        </p:nvSpPr>
        <p:spPr>
          <a:xfrm flipH="1">
            <a:off x="250920" y="5229360"/>
            <a:ext cx="3168720" cy="136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47" y="-12429"/>
                </a:moveTo>
                <a:lnTo>
                  <a:pt x="368" y="7049"/>
                </a:lnTo>
              </a:path>
            </a:pathLst>
          </a:custGeom>
          <a:noFill/>
          <a:ln cap="rnd" w="22320">
            <a:solidFill>
              <a:srgbClr val="8cb64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Materiały informacyjne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pie slajdów.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Na jednej stronie może być kilka slajdów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rostokąt: zaokrąglone rogi 11"/>
          <p:cNvSpPr/>
          <p:nvPr/>
        </p:nvSpPr>
        <p:spPr>
          <a:xfrm>
            <a:off x="6539040" y="1482840"/>
            <a:ext cx="2185920" cy="11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rostokąt: zaokrąglone rogi 12"/>
          <p:cNvSpPr/>
          <p:nvPr/>
        </p:nvSpPr>
        <p:spPr>
          <a:xfrm>
            <a:off x="6875640" y="4200480"/>
            <a:ext cx="1849320" cy="1965240"/>
          </a:xfrm>
          <a:custGeom>
            <a:avLst/>
            <a:gdLst>
              <a:gd name="textAreaLeft" fmla="*/ 90000 w 1849320"/>
              <a:gd name="textAreaRight" fmla="*/ 1759320 w 1849320"/>
              <a:gd name="textAreaTop" fmla="*/ 90000 h 1965240"/>
              <a:gd name="textAreaBottom" fmla="*/ 1875240 h 1965240"/>
            </a:gdLst>
            <a:ahLst/>
            <a:rect l="textAreaLeft" t="textAreaTop" r="textAreaRight" b="textAreaBottom"/>
            <a:pathLst>
              <a:path w="21600" h="22954">
                <a:moveTo>
                  <a:pt x="3600" y="0"/>
                </a:moveTo>
                <a:arcTo wR="3600" hR="3600" stAng="16200000" swAng="-5400000"/>
                <a:lnTo>
                  <a:pt x="0" y="19354"/>
                </a:lnTo>
                <a:arcTo wR="3600" hR="3600" stAng="10800000" swAng="-5400000"/>
                <a:lnTo>
                  <a:pt x="18000" y="229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Objaśnienie: linia bez obramowania 17"/>
          <p:cNvSpPr/>
          <p:nvPr/>
        </p:nvSpPr>
        <p:spPr>
          <a:xfrm>
            <a:off x="6576840" y="1463760"/>
            <a:ext cx="2251080" cy="11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00" y="33293"/>
                </a:moveTo>
                <a:lnTo>
                  <a:pt x="-1909" y="11660"/>
                </a:lnTo>
              </a:path>
            </a:pathLst>
          </a:custGeom>
          <a:noFill/>
          <a:ln cap="rnd" w="22320">
            <a:solidFill>
              <a:srgbClr val="8cb64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trony notatek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moc dla prelegent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Objaśnienie: linia bez obramowania 18"/>
          <p:cNvSpPr/>
          <p:nvPr/>
        </p:nvSpPr>
        <p:spPr>
          <a:xfrm>
            <a:off x="6948360" y="4281480"/>
            <a:ext cx="1944720" cy="16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863" y="-10320"/>
                </a:moveTo>
                <a:lnTo>
                  <a:pt x="-2328" y="-720"/>
                </a:lnTo>
              </a:path>
            </a:pathLst>
          </a:custGeom>
          <a:noFill/>
          <a:ln cap="rnd" w="22320">
            <a:solidFill>
              <a:srgbClr val="8cb64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idok konspektu –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rukowanie konspektu prezentacji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6. USTALENIE PARAMETRÓW POKAZU I POKAZ</a:t>
            </a:r>
            <a:br>
              <a:rPr sz="24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O czym należy pamiętać wygłaszając prezentację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6" name="Owal 9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7" name="Grafika 10" descr="Nauczyciel"/>
          <p:cNvPicPr/>
          <p:nvPr/>
        </p:nvPicPr>
        <p:blipFill>
          <a:blip r:embed="rId1"/>
          <a:stretch/>
        </p:blipFill>
        <p:spPr>
          <a:xfrm>
            <a:off x="8194680" y="3762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578" name="Obraz 4" descr=""/>
          <p:cNvPicPr/>
          <p:nvPr/>
        </p:nvPicPr>
        <p:blipFill>
          <a:blip r:embed="rId2"/>
          <a:stretch/>
        </p:blipFill>
        <p:spPr>
          <a:xfrm>
            <a:off x="1403280" y="2166840"/>
            <a:ext cx="1782720" cy="1338480"/>
          </a:xfrm>
          <a:prstGeom prst="rect">
            <a:avLst/>
          </a:prstGeom>
          <a:ln w="0">
            <a:noFill/>
          </a:ln>
        </p:spPr>
      </p:pic>
      <p:pic>
        <p:nvPicPr>
          <p:cNvPr id="579" name="Grafika 2" descr="Nauczyciel"/>
          <p:cNvPicPr/>
          <p:nvPr/>
        </p:nvPicPr>
        <p:blipFill>
          <a:blip r:embed="rId3"/>
          <a:stretch/>
        </p:blipFill>
        <p:spPr>
          <a:xfrm>
            <a:off x="598320" y="1397160"/>
            <a:ext cx="2876760" cy="2876400"/>
          </a:xfrm>
          <a:prstGeom prst="rect">
            <a:avLst/>
          </a:prstGeom>
          <a:ln w="0">
            <a:noFill/>
          </a:ln>
        </p:spPr>
      </p:pic>
      <p:sp>
        <p:nvSpPr>
          <p:cNvPr id="580" name="Dymek mowy: prostokąt z zaokrąglonymi rogami 8"/>
          <p:cNvSpPr/>
          <p:nvPr/>
        </p:nvSpPr>
        <p:spPr>
          <a:xfrm>
            <a:off x="3762360" y="2060640"/>
            <a:ext cx="5035680" cy="3701880"/>
          </a:xfrm>
          <a:prstGeom prst="wedgeRoundRectCallout">
            <a:avLst>
              <a:gd name="adj1" fmla="val -91833"/>
              <a:gd name="adj2" fmla="val -25731"/>
              <a:gd name="adj3" fmla="val 16667"/>
            </a:avLst>
          </a:prstGeom>
          <a:solidFill>
            <a:srgbClr val="ffffff"/>
          </a:solidFill>
          <a:ln cap="rnd" w="2232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tal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arametry pokazu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sposób przełączania slajdów, narracja) w karcie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kaz slajdów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brze się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gotu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przed pokazem przejrzyj jeszcze notatki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żne jest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ierwsze wrażenie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– dopracuj wstęp prezentacji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trzymuj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kontak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 odbiorcami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zytaj tekstu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tylko go komentuj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rób krótkie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dsumowa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ole tekstowe 3"/>
          <p:cNvSpPr/>
          <p:nvPr/>
        </p:nvSpPr>
        <p:spPr>
          <a:xfrm>
            <a:off x="2087640" y="2205000"/>
            <a:ext cx="49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5400" spc="-1" strike="noStrike">
                <a:solidFill>
                  <a:srgbClr val="366658"/>
                </a:solidFill>
                <a:latin typeface="Calibri"/>
                <a:ea typeface="Calibri"/>
              </a:rPr>
              <a:t>Dziękuję za uwagę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8T13:27:44Z</dcterms:created>
  <dc:creator>MK</dc:creator>
  <dc:description/>
  <dc:language>en-US</dc:language>
  <cp:lastModifiedBy>msk</cp:lastModifiedBy>
  <dcterms:modified xsi:type="dcterms:W3CDTF">2019-11-02T13:20:40Z</dcterms:modified>
  <cp:revision>152</cp:revision>
  <dc:subject/>
  <dc:title>Jak stworzyć dobrą prezentację?</dc:title>
</cp:coreProperties>
</file>